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3.png" ContentType="image/png"/>
  <Override PartName="/ppt/media/image26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7.png" ContentType="image/png"/>
  <Override PartName="/ppt/media/image9.png" ContentType="image/png"/>
  <Override PartName="/ppt/media/image30.jpeg" ContentType="image/jpeg"/>
  <Override PartName="/ppt/media/image23.jpeg" ContentType="image/jpeg"/>
  <Override PartName="/ppt/media/image1.jpeg" ContentType="image/jpeg"/>
  <Override PartName="/ppt/media/image10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.jpeg" ContentType="image/jpeg"/>
  <Override PartName="/ppt/media/image20.png" ContentType="image/png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CE26-0FBE-4D8B-A155-62C640B36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E6F5-8EDF-4F69-B45C-FEBEBA8C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CBF86-441A-4AB9-B719-9079B957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FCDE01-1B07-402C-B477-6ADE6697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2F59F-40EF-4A32-8C10-65C859AE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BD9CB-39CD-4CDD-BD45-98B371BD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6A3415-E3BB-458E-8938-181FF92A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81778B-AE5D-4D2B-9C08-7896F0AA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93BE9-5AB3-47D5-ADE8-6C30F80D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4FE9C-E15E-4FAB-803A-386F8AC95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B2808-AAB1-4831-965A-173C33955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3CA7D-1464-4DDC-9098-6DB64A9B5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FC2C-5CF4-461C-8931-37A666F77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FD6740-2BB8-4E19-ADD2-8B18AC93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E54A0F-59ED-48B8-BB0C-4A827AB0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8E3D8-5839-4F67-9B0A-E83E05DE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22A77-2EFC-4BDF-B397-39113390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A5F590-217D-4CEC-A4A3-116485EC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FF4EBB-CE5B-4ED9-8875-D4BAA167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65E8CC-2AE7-404E-9689-50598562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4E22A-81C6-4ADC-BCE4-DDEB4DF3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AA6B2F-0115-45BE-9E7F-1F3691C9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8A9479-C2F0-4B14-B74D-87CC20719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D65B-2E2A-4598-AAE8-E6F9CE20C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6608AF-0EE4-46F7-AE2F-F1811C0C5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5FBA0-C58B-4F9F-AA12-78EA3F0A0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1D00A-2CDC-40A7-9C0C-69CB9579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E0E9A-CA93-4B41-8892-EEFC44A0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CBFB9-0B8A-4C86-A882-647952B8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2201D4-8AD2-4B11-8D54-30B4798A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4F3AB-F8CB-44C1-8EE5-6BCE3DE6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D4FFBA-BF8B-4850-ADD5-526F2706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32847-C5BE-4F54-8610-037877D1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0CADB-F097-4532-98FA-4DED5B86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E05F-7639-4068-AF68-20251E1D4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70BE6-CEBB-4BAF-B6C7-BF2BB575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0F988-ED92-4D53-B0B1-D238960B0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03DA2F-3743-46CE-B106-615A07655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011C92-82A0-4CFE-A3E9-F5E4CCE1F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6DAA29-ECDA-47EC-83C6-7FF126E0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170444-3067-4E7B-92E1-4955383D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7B74F4-8FDA-436D-B477-DDA0889E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36E5A5-A007-4551-BF4A-810486D2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939E72-B5F0-4FF8-A0D2-A0057CB0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122CE6-3CFE-4B45-87BC-78B4FC55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DC05-97E4-4AEA-B28D-38409939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CA8145-73D9-4F0E-92F6-B52E5ACE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492CA1-6832-4960-BA47-9F5B434D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0712D1-BADA-4E69-9F76-4BEAE477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211B11-9FE5-4D75-8310-0D9D93FEB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9AF809-43AA-49E5-BD84-6EAE9FE7D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3EDDA5-32DE-46C1-951C-8014CFE61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8D9EEE-9CF0-49E9-B40C-FCF22CE5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2C623D-90A0-4BF1-8073-3F681744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5AA57A-AA1C-42B4-9DBD-B3F81F7D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B96773-82D8-4B0D-90C3-931A670D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5200-5878-44AD-8207-ABCA479D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0C1FC5-722D-414F-A891-BDBC2DB5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A7CC58-0ED0-41A9-B872-7E723668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4FDF17-50FA-4002-A8D0-B5371077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3A0EEF-B27A-46B3-AC83-E8188475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6123C7-B375-46D9-AFB7-E25801B9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3D0F59-449C-4ED9-A5D0-68DFE1233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B4F6C6-47C0-4D18-8954-129C27D70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918199-9E8F-404D-8935-9E95D7E1D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AC58DD-35F6-4703-950E-BF848713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E44B9D-CF1E-4DB4-A777-041E74F9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FB0E-7896-443A-982B-FA399927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20DE0A-0997-499E-BF3A-B0E370F6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C523B9-9F6D-455A-8724-B7CDB225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101697-6219-4B84-BDC5-10FB0519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39D742-2B09-48B3-ACF4-DDC12A1F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57B3F0-DB35-41FE-B2D6-AECAD73A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B7D77F-FE43-4BAB-8EFC-781788CE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AB6B5A-330E-4C0E-8B16-313790FB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7BD97F-379E-46DC-B88F-2B66DE6B8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B43D16-BE5B-46D5-966D-2908AB699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6C84-9202-40A0-ACAC-48929F40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4E7E-6EAC-438C-8355-56DFF462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867C-D74F-4A03-BC59-C71E933F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80DB-CB42-4330-9449-DE42B0AE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A9BA-F203-4297-83EF-D28B3251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B6B2-5AF5-49D2-8172-8DABC53F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1F4C-819E-404E-A8E3-DFA8782D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50A0-34A7-4BA7-8488-8B4C81BAF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7DC3-E24A-4E3C-ADA5-2A1484CD8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CE734-082C-4331-B362-A2501A46A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E6E78-3325-413A-83A6-7CC0130A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64269-0573-47B3-98C0-E0F371EE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93EFD-E3F7-4AFA-BAAB-6F16727A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2C44B-9A4A-4176-8F53-7EFC09FB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C04B-BC76-4803-8B3D-399BD930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359A9-0682-4556-B732-DB4702D7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03F67-F7B1-4201-BF26-CBFCEA03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B95A9-9AE7-492C-B9D3-4FD49DE7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EF105-48F7-434D-B6C9-1AA44FD1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39C69-D36C-418A-BC7D-C04A36A1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DBF53-A22F-4EB4-90E6-E44CADEEA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789CC-7866-4CD2-A167-E710A93F7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499BA-7BB0-429D-A251-F6A104E40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889F0-0AE9-4415-BE9A-E625D43B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4825E-7EE7-4E18-B493-991E88DD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BE47-591C-4A85-AC5A-49C5516A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1D39F-3C99-4FDE-B8BF-E06D6F54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618ED-0CF5-418A-BA6D-D41FF002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E5B3A-A643-4CBB-91F1-873C6DDF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E62D0-689B-46E8-83C6-DA9CD9F8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A1F49-FCE8-41E4-975A-1C13127A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F4785-802C-4412-89EC-EFE556C3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E4DD5-2C23-4B62-8FE0-C27AC92C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5756D-6CC8-4029-9491-A1AEA67B9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C4756-D3EB-487E-B06F-9C002AF3F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D3AAF-5D98-4593-881B-7EBA25B72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47D3-9EF7-427A-AFEC-286F87F0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E3A4A-4483-4298-9AF9-8967B71E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411E3-129E-42FB-BC40-3E3E2A6E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F5FBE-5082-4C86-A933-69079327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D9D04-6F01-4692-94D4-62D782D6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D4225-A03E-4446-B04A-E8B68FE6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3297A-A875-4E29-8EFD-9756B84F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D14F1-5AC0-4721-985B-3586F31B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632FE-5AC3-44AC-A6CD-6D8F6E13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9FD25-FE4E-454F-B538-48408E71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2C794-8149-4CD3-B66D-BF63FA9A4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F7D7-468D-428A-BA97-F0B1D178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C9634-C581-414A-8C41-F9BFDCDA3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1B438-957B-40A9-A0A0-6FD70D2F2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80E5C-09AB-48A1-92D5-B4E96985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144BD-E8C6-4642-9D9F-91F57571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34BE7-D039-4DAC-B061-82CF9126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4B62C-9D7E-42A2-85C6-0623DF99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54BCB-BCED-412F-83B4-DCEF8A9E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85BE4-1930-4C96-BCBC-3CD3679F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54D4E-E0B0-4929-83FC-3FDB674D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CB6D5-F023-4633-8271-56055479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F869-F120-4194-BAC1-A54784D6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A102A-5344-4588-A1FC-39EB6607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3FA77-A1AA-4982-AA54-2C6986ACB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FC504-99E7-40F3-8E69-83F17966E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C2D36-F9A1-4A6F-ACD0-FE790EAD1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79177-3773-4B43-8345-1674FB21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A9A6B-AC52-46A5-8F77-AC22B240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0C77A-C79F-40CC-98DE-6ECE56EA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4C3EE-B065-4804-9740-3C82F975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A748D-AC00-479E-9E99-00156376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5944F-0B81-4FDF-83B0-498E0970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6133-1A1A-4554-8E05-BC7E3AF1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872CF-F59F-42CA-82EF-B72874D4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FD768-8808-4CCC-8339-DD816561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A0350-B6EA-405C-BA1C-CD37FC48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D1317-FE1F-4120-89E6-F3DEFCDDD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AA1CB-3E87-4507-B6ED-30E6E6D85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23E29-FD7E-4ACD-8E94-FF408189F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F247D-BE82-43ED-A1FE-D9E9F64F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83BA9-2533-40B7-9125-7F84B0BC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C3C6E-4FA6-405A-BC8E-00099236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899C6-37B0-46A5-8473-4C0ED07D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DB69-C0EE-40BD-8E21-DF08E747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37925-5DBB-4311-9170-751E621E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B416C-A162-432C-8096-212A7AFB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74494-2782-4DA8-B6C2-955D6292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CCE6A-F822-4CFD-BA96-3A916DE5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536FE-0961-4370-AC00-A6D8F3A7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E53E0-0DF7-43FD-A8B3-52AB24AD3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D4BEB-A4A6-4327-8330-AF3BC8DC3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8FB2A-B426-4C9F-A621-FAEF6291B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1826A3-7053-44D2-B368-AF3A232F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F0470-FB1B-4F3D-A766-D6CEFB4C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C7E7-33CF-4BAB-A4D9-7681363C6D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A9B6-029D-45EF-9595-EBA63BE1D1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5B27-CF8C-4563-8907-781907EE3E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BC3E-A713-4FF8-B1D3-445982B346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0427-8BAA-45E7-A63C-B8BB555839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4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4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4F40-C568-416B-8785-4387EE747CD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40ED-3FC5-42F1-926B-224480DAC8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307F-EE9C-481F-B2BB-37752E351B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DDB7-661C-460F-9AA5-9BFF3DDE98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D28C-48B6-458E-9263-6770B00060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8F03-8985-4C5B-8C31-36C292EEAC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BF00-8834-4B75-B8D8-990D4E06F8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416E-3669-41C6-8EE6-23DACC34A5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8D5C-A056-4239-A457-80B74159C3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4" descr="река времени"/>
          <p:cNvPicPr/>
          <p:nvPr/>
        </p:nvPicPr>
        <p:blipFill>
          <a:blip r:embed="rId1">
            <a:lum bright="-12000"/>
          </a:blip>
          <a:srcRect l="4724" t="10366" r="7874" b="6695"/>
          <a:stretch/>
        </p:blipFill>
        <p:spPr>
          <a:xfrm>
            <a:off x="1523880" y="0"/>
            <a:ext cx="634392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Rectangle 3"/>
          <p:cNvSpPr/>
          <p:nvPr/>
        </p:nvSpPr>
        <p:spPr>
          <a:xfrm>
            <a:off x="0" y="64904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аких исторических событий начались времена Московского государств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WordArt 2"/>
          <p:cNvSpPr txBox="1"/>
          <p:nvPr/>
        </p:nvSpPr>
        <p:spPr>
          <a:xfrm>
            <a:off x="2743200" y="45720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7" name="Picture 3" descr="krestyanin"/>
          <p:cNvPicPr/>
          <p:nvPr/>
        </p:nvPicPr>
        <p:blipFill>
          <a:blip r:embed="rId3"/>
          <a:stretch/>
        </p:blipFill>
        <p:spPr>
          <a:xfrm>
            <a:off x="1981080" y="1219320"/>
            <a:ext cx="6120000" cy="469404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5"/>
          <p:cNvSpPr/>
          <p:nvPr/>
        </p:nvSpPr>
        <p:spPr>
          <a:xfrm>
            <a:off x="0" y="5693040"/>
            <a:ext cx="3505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Сообщение по плану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 называется групп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жили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Чем занимались люди этой группы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Значение группы для государ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WordArt 2"/>
          <p:cNvSpPr txBox="1"/>
          <p:nvPr/>
        </p:nvSpPr>
        <p:spPr>
          <a:xfrm>
            <a:off x="2209680" y="457200"/>
            <a:ext cx="2971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бояр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0" name="Picture 5" descr="mod67_1_9"/>
          <p:cNvPicPr/>
          <p:nvPr/>
        </p:nvPicPr>
        <p:blipFill>
          <a:blip r:embed="rId3"/>
          <a:stretch/>
        </p:blipFill>
        <p:spPr>
          <a:xfrm>
            <a:off x="228600" y="2286000"/>
            <a:ext cx="4809960" cy="30481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6" descr=""/>
          <p:cNvPicPr/>
          <p:nvPr/>
        </p:nvPicPr>
        <p:blipFill>
          <a:blip r:embed="rId4"/>
          <a:stretch/>
        </p:blipFill>
        <p:spPr>
          <a:xfrm>
            <a:off x="5105520" y="1676520"/>
            <a:ext cx="38811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WordArt 2"/>
          <p:cNvSpPr txBox="1"/>
          <p:nvPr/>
        </p:nvSpPr>
        <p:spPr>
          <a:xfrm>
            <a:off x="2286000" y="380880"/>
            <a:ext cx="417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дворян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3" name="Picture 3" descr="ris014"/>
          <p:cNvPicPr/>
          <p:nvPr/>
        </p:nvPicPr>
        <p:blipFill>
          <a:blip r:embed="rId3"/>
          <a:stretch/>
        </p:blipFill>
        <p:spPr>
          <a:xfrm>
            <a:off x="2286000" y="1495440"/>
            <a:ext cx="39816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WordArt 2"/>
          <p:cNvSpPr txBox="1"/>
          <p:nvPr/>
        </p:nvSpPr>
        <p:spPr>
          <a:xfrm>
            <a:off x="2362320" y="53352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ельцы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5" name="Picture 4" descr="strelec2s"/>
          <p:cNvPicPr/>
          <p:nvPr/>
        </p:nvPicPr>
        <p:blipFill>
          <a:blip r:embed="rId3"/>
          <a:stretch/>
        </p:blipFill>
        <p:spPr>
          <a:xfrm>
            <a:off x="4572000" y="1371600"/>
            <a:ext cx="4191120" cy="46324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"/>
          <p:cNvPicPr/>
          <p:nvPr/>
        </p:nvPicPr>
        <p:blipFill>
          <a:blip r:embed="rId4"/>
          <a:stretch/>
        </p:blipFill>
        <p:spPr>
          <a:xfrm>
            <a:off x="228600" y="1371600"/>
            <a:ext cx="4176720" cy="4648320"/>
          </a:xfrm>
          <a:prstGeom prst="rect">
            <a:avLst/>
          </a:prstGeom>
          <a:ln w="0">
            <a:noFill/>
          </a:ln>
        </p:spPr>
      </p:pic>
      <p:sp>
        <p:nvSpPr>
          <p:cNvPr id="627" name="Rectangle 6"/>
          <p:cNvSpPr/>
          <p:nvPr/>
        </p:nvSpPr>
        <p:spPr>
          <a:xfrm>
            <a:off x="1872360" y="6475680"/>
            <a:ext cx="53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Какие категории граждан населяли Московское государство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WordArt 2"/>
          <p:cNvSpPr txBox="1"/>
          <p:nvPr/>
        </p:nvSpPr>
        <p:spPr>
          <a:xfrm>
            <a:off x="1371600" y="152280"/>
            <a:ext cx="62485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фрагмент памятника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вану Федорову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9" name="Picture 3" descr="6"/>
          <p:cNvPicPr/>
          <p:nvPr/>
        </p:nvPicPr>
        <p:blipFill>
          <a:blip r:embed="rId5"/>
          <a:stretch/>
        </p:blipFill>
        <p:spPr>
          <a:xfrm>
            <a:off x="1905120" y="1523880"/>
            <a:ext cx="5340240" cy="450072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5"/>
          <p:cNvSpPr/>
          <p:nvPr/>
        </p:nvSpPr>
        <p:spPr>
          <a:xfrm>
            <a:off x="-2160" y="6216840"/>
            <a:ext cx="856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О каком замечательном научном изобретении прочитали? Кому оно принадлежит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Подумайте, какое значение имело для жителей Московского государства начало книгопечатания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WordArt 2"/>
          <p:cNvSpPr txBox="1"/>
          <p:nvPr/>
        </p:nvSpPr>
        <p:spPr>
          <a:xfrm>
            <a:off x="349200" y="304920"/>
            <a:ext cx="426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аница "Апостола"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32" name="Picture 3" descr="апостол"/>
          <p:cNvPicPr/>
          <p:nvPr/>
        </p:nvPicPr>
        <p:blipFill>
          <a:blip r:embed="rId3"/>
          <a:stretch/>
        </p:blipFill>
        <p:spPr>
          <a:xfrm>
            <a:off x="304920" y="1523880"/>
            <a:ext cx="3238560" cy="51134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" descr="азбука"/>
          <p:cNvPicPr/>
          <p:nvPr/>
        </p:nvPicPr>
        <p:blipFill>
          <a:blip r:embed="rId4"/>
          <a:stretch/>
        </p:blipFill>
        <p:spPr>
          <a:xfrm>
            <a:off x="3657600" y="2438280"/>
            <a:ext cx="5181480" cy="4213440"/>
          </a:xfrm>
          <a:prstGeom prst="rect">
            <a:avLst/>
          </a:prstGeom>
          <a:ln w="0">
            <a:noFill/>
          </a:ln>
        </p:spPr>
      </p:pic>
      <p:sp>
        <p:nvSpPr>
          <p:cNvPr id="634" name="WordArt 6"/>
          <p:cNvSpPr txBox="1"/>
          <p:nvPr/>
        </p:nvSpPr>
        <p:spPr>
          <a:xfrm>
            <a:off x="4343400" y="144792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аницы "Азбуки"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Задание на дом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о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я № 34, 37 в рабочей тетрад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полнительно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нать об отдыхе и труде основных слоев населения Московского государства в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VI-XVII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к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7" descr="andrei_rublev"/>
          <p:cNvPicPr/>
          <p:nvPr/>
        </p:nvPicPr>
        <p:blipFill>
          <a:blip r:embed="rId1"/>
          <a:stretch/>
        </p:blipFill>
        <p:spPr>
          <a:xfrm>
            <a:off x="420840" y="189000"/>
            <a:ext cx="3522600" cy="4419360"/>
          </a:xfrm>
          <a:prstGeom prst="rect">
            <a:avLst/>
          </a:prstGeom>
          <a:ln w="0">
            <a:noFill/>
          </a:ln>
        </p:spPr>
      </p:pic>
      <p:sp>
        <p:nvSpPr>
          <p:cNvPr id="593" name="WordArt 8"/>
          <p:cNvSpPr txBox="1"/>
          <p:nvPr/>
        </p:nvSpPr>
        <p:spPr>
          <a:xfrm>
            <a:off x="228600" y="4724280"/>
            <a:ext cx="417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Андрей Рублёв</a:t>
            </a:r>
            <a:endParaRPr b="1" lang="en-US" sz="1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990720" y="5486400"/>
            <a:ext cx="2438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сский живописе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Picture 3" descr="8_1"/>
          <p:cNvPicPr/>
          <p:nvPr/>
        </p:nvPicPr>
        <p:blipFill>
          <a:blip r:embed="rId4"/>
          <a:stretch/>
        </p:blipFill>
        <p:spPr>
          <a:xfrm>
            <a:off x="4840200" y="2243160"/>
            <a:ext cx="3511800" cy="4352760"/>
          </a:xfrm>
          <a:prstGeom prst="rect">
            <a:avLst/>
          </a:prstGeom>
          <a:ln w="0">
            <a:noFill/>
          </a:ln>
        </p:spPr>
      </p:pic>
      <p:sp>
        <p:nvSpPr>
          <p:cNvPr id="596" name="WordArt 2"/>
          <p:cNvSpPr txBox="1"/>
          <p:nvPr/>
        </p:nvSpPr>
        <p:spPr>
          <a:xfrm>
            <a:off x="4419720" y="91440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кона "Троица"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WordArt 2"/>
          <p:cNvSpPr txBox="1"/>
          <p:nvPr/>
        </p:nvSpPr>
        <p:spPr>
          <a:xfrm>
            <a:off x="4572000" y="1066680"/>
            <a:ext cx="4572000" cy="109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ергий Радонежский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8" name="Picture 3" descr="file23at26"/>
          <p:cNvPicPr/>
          <p:nvPr/>
        </p:nvPicPr>
        <p:blipFill>
          <a:blip r:embed="rId3"/>
          <a:stretch/>
        </p:blipFill>
        <p:spPr>
          <a:xfrm>
            <a:off x="228600" y="762120"/>
            <a:ext cx="4357800" cy="521964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4"/>
          <p:cNvSpPr/>
          <p:nvPr/>
        </p:nvSpPr>
        <p:spPr>
          <a:xfrm>
            <a:off x="5029200" y="2590920"/>
            <a:ext cx="370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атель и настоятель Троице-Сергиева монастыр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WordArt 2"/>
          <p:cNvSpPr txBox="1"/>
          <p:nvPr/>
        </p:nvSpPr>
        <p:spPr>
          <a:xfrm>
            <a:off x="0" y="533520"/>
            <a:ext cx="5029200" cy="124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Дмитрий Донской</a:t>
            </a:r>
            <a:endParaRPr b="1" lang="en-US" sz="16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304920" y="2438280"/>
            <a:ext cx="4356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ий князь Московский и Владимирский, сын Ивана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Picture 5" descr=""/>
          <p:cNvPicPr/>
          <p:nvPr/>
        </p:nvPicPr>
        <p:blipFill>
          <a:blip r:embed="rId3"/>
          <a:stretch/>
        </p:blipFill>
        <p:spPr>
          <a:xfrm>
            <a:off x="5029200" y="609480"/>
            <a:ext cx="37656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WordArt 2"/>
          <p:cNvSpPr txBox="1"/>
          <p:nvPr/>
        </p:nvSpPr>
        <p:spPr>
          <a:xfrm>
            <a:off x="152280" y="457200"/>
            <a:ext cx="883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ван III Васильевич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4" name="Picture 3" descr="ioann3Russ_001"/>
          <p:cNvPicPr/>
          <p:nvPr/>
        </p:nvPicPr>
        <p:blipFill>
          <a:blip r:embed="rId3"/>
          <a:stretch/>
        </p:blipFill>
        <p:spPr>
          <a:xfrm>
            <a:off x="304920" y="1371600"/>
            <a:ext cx="4400280" cy="489600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4"/>
          <p:cNvSpPr/>
          <p:nvPr/>
        </p:nvSpPr>
        <p:spPr>
          <a:xfrm>
            <a:off x="4788000" y="1700280"/>
            <a:ext cx="435600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ий князь Московский, сын Василия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нем сложилось единое Российское государство, было свергнуто монголо-татарское иго</a:t>
            </a:r>
            <a:r>
              <a:rPr b="1" lang="ru-RU" sz="3200" spc="-1" strike="noStrike">
                <a:solidFill>
                  <a:srgbClr val="ffffff"/>
                </a:solidFill>
                <a:latin typeface="CyrillicGoth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WordArt 2"/>
          <p:cNvSpPr txBox="1"/>
          <p:nvPr/>
        </p:nvSpPr>
        <p:spPr>
          <a:xfrm>
            <a:off x="5562720" y="457200"/>
            <a:ext cx="33382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ская изба</a:t>
            </a:r>
            <a:endParaRPr b="1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внутри </a:t>
            </a:r>
            <a:endParaRPr b="1" lang="en-US" sz="4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7" name="Picture 4" descr="home"/>
          <p:cNvPicPr/>
          <p:nvPr/>
        </p:nvPicPr>
        <p:blipFill>
          <a:blip r:embed="rId5"/>
          <a:srcRect l="0" t="0" r="0" b="1058"/>
          <a:stretch/>
        </p:blipFill>
        <p:spPr>
          <a:xfrm>
            <a:off x="228600" y="228600"/>
            <a:ext cx="5197320" cy="32767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3" descr="alapaevsk9"/>
          <p:cNvPicPr/>
          <p:nvPr/>
        </p:nvPicPr>
        <p:blipFill>
          <a:blip r:embed="rId6"/>
          <a:stretch/>
        </p:blipFill>
        <p:spPr>
          <a:xfrm>
            <a:off x="3886200" y="3276720"/>
            <a:ext cx="5033880" cy="332244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6"/>
          <p:cNvSpPr/>
          <p:nvPr/>
        </p:nvSpPr>
        <p:spPr>
          <a:xfrm>
            <a:off x="0" y="6250320"/>
            <a:ext cx="39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Рассмотрите избу, её убранство.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Опишите, как выглядит изба внутр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08220214"/>
          <p:cNvPicPr/>
          <p:nvPr/>
        </p:nvPicPr>
        <p:blipFill>
          <a:blip r:embed="rId1"/>
          <a:stretch/>
        </p:blipFill>
        <p:spPr>
          <a:xfrm>
            <a:off x="228600" y="228600"/>
            <a:ext cx="4626000" cy="3467160"/>
          </a:xfrm>
          <a:prstGeom prst="rect">
            <a:avLst/>
          </a:prstGeom>
          <a:ln w="0">
            <a:noFill/>
          </a:ln>
        </p:spPr>
      </p:pic>
      <p:sp>
        <p:nvSpPr>
          <p:cNvPr id="611" name="WordArt 3"/>
          <p:cNvSpPr txBox="1"/>
          <p:nvPr/>
        </p:nvSpPr>
        <p:spPr>
          <a:xfrm>
            <a:off x="4967280" y="762120"/>
            <a:ext cx="4176720" cy="16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ская изба </a:t>
            </a:r>
            <a:endParaRPr b="1" lang="en-US" sz="1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2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наружи</a:t>
            </a:r>
            <a:endParaRPr b="1" lang="en-US" sz="12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2" name="Picture 4" descr="kizhi6"/>
          <p:cNvPicPr/>
          <p:nvPr/>
        </p:nvPicPr>
        <p:blipFill>
          <a:blip r:embed="rId7"/>
          <a:srcRect l="0" t="0" r="14724" b="15039"/>
          <a:stretch/>
        </p:blipFill>
        <p:spPr>
          <a:xfrm>
            <a:off x="3505320" y="3048120"/>
            <a:ext cx="541008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9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18c7b"/>
                </a:solidFill>
                <a:latin typeface="Arial Rounded MT Bold"/>
              </a:rPr>
              <a:t>Люди Московского государства славились своим трудолюбием, мастерством и мудростью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1080" y="6445080"/>
            <a:ext cx="50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А что за люди тогда жили?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формулируйте тему уро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512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4a"/>
                </a:solidFill>
                <a:latin typeface="Monotype Corsiva"/>
              </a:rPr>
              <a:t>Земля и люди </a:t>
            </a:r>
            <a:br>
              <a:rPr sz="8800"/>
            </a:br>
            <a:r>
              <a:rPr b="1" lang="ru-RU" sz="8800" spc="-1" strike="noStrike">
                <a:solidFill>
                  <a:srgbClr val="ffff4a"/>
                </a:solidFill>
                <a:latin typeface="Monotype Corsiva"/>
              </a:rPr>
              <a:t>Московского государства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4:09:24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